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D14-E35A-4BAD-903A-24DD7499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531-F514-4647-A1D2-52B58642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F2F-8E6F-4421-87F1-FB81E773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CE4-5ABB-41EA-94B6-114F5D4B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43C-F147-4D6C-B039-6EE31E16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E86-7681-440E-BF4C-90D47422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3BB-4A59-4731-A24B-470B543E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623-BCC9-40A3-ABC7-1CDC8774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366-96B5-4BC3-9F39-5F9A8A33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EF5-9D2E-4D91-BDBB-CE8482E8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213-B349-4898-B493-5BC942C0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3F2-9293-4DA9-9568-BAB71CB5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3CAC-F509-4864-BBA8-1659123CB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сновні показники та досягн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виконання заходів, передбачених Програмою розвитку та підтримки галузі рослинництва в області на 2021 – 2025 роки, з обласного бюджету у 2023 році суб’єктам господарювання спрямовано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15600,0 тис. гривен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 напрямом часткового відшкодування вартості придбаного і встановленого поливного обладнання, поливних систем 5 суб’єктам господарювання частково відшкодовано вартість витрат у сумі 5 212,371 тис.гривень, (п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идбано: дощувальні барабани, капельні стрічки, труби, шланги, двигун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ОВ «Агро Альянс Закарпаття», ТОВ «Дніпро 99» - Берегівського район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Г «Агро Свалява» - Мукачівського район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Г «Наші овочі» - Ужгородського райо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 напрямком часткового відшкодування вартості придбаної техніки та обладнання 10 суб’єктам господарювання частково відшкодовано вартість витрат у сумі 9 998,598 тис.гривень, (придбано: мотоблоки, тракторні навісні механізми, оприскувачі, культиватор, косарку тракторну, жниварки, копач для висаджування садивного матеріалу, сівалку, плівкоукладач, грядоутворювач, кормороздавач, трактори, комбайн, обладнання для сушіння, очистки та зберігання зерна тощо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ОВ «Агро Альянс Закарпаття», ФГ «Ренет», ТОВ «Ріал Нат» - Берегівського район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ОВ «Натс Гарден», ТОВ «Віан 2021», ФОП Делеган І.І., ТОВ «Каридія» -   Мукачівського район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ОВ «Агропром – Закарпаття» -  Ужгородського район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ОП Лепей Ю. Ю., ФОП Лепей Р. В. – Хустського райо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За напрямом популяризація сільськогосподарської продукції, оплачено юридичним особам та фізичним особам-підприємцям у сумі 389,031 тис. гривень за послуги для організації та проведення конкурсу малих виробництв виноробної продукції “Вина Срібної Землі - 2023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Arial"/>
              </a:rPr>
              <a:t>Заплановані обсяги фінансування програми, визначені у паспорті про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ий обсяг фінансових ресурсів з обласного бюджету необхідних для реалізації Програми у 2023 році становив 53 400,0 тис. гри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Фактичні обсяги фінансування програми у 2023 ро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рахунок коштів обласного бюдж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5 600,0 тис. гри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ета Програми розвитку та підтримки галузі рослинництва в області на 2021-2025 ро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274284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ворення належних умов для розвитку товарного виробництва продукції рослинництва, досягнення позитивних змін у галузі, шляхом нарощування виробництва рослинницької продукції, підвищення рівня забезпеченості області продуктами харчув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4-04-25T06:44:0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